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866-EF44-4D63-8A5E-3AA2B629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3D2-B64A-4BFC-9D0F-6B96E99D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06C-4FC5-41A9-B297-CFAA09D8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494-0102-44BD-ADCF-C21C8D38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810-926C-4F28-81A4-58FA19F8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634-6726-48C8-BB7A-9DE389DD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E13-22A2-443C-BC36-30C7794D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B90-AE3A-4B29-B91E-5A343A70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B97-79FA-4BF0-A796-46CA0C60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177-CB9E-48FC-B701-A3ABF71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433-2448-4E01-A798-E6167241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A18-DF3C-4F21-B2EA-A41DF51E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B2F7-FE72-470C-B27C-F4966BC738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52360" y="0"/>
            <a:ext cx="9396360" cy="703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 Day in the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 Iona B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Walking To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4913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orning I walk down to the path with my sister, where we wait for her friends. When they come my sister goes off and I wait for Jade and Katie. We then walk to school. This a view of the maths block where we wait to go into tutor tim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Tuto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ays we spend some time in the maths block where we have tutor time and check our journals. This is a close up of the maths bloc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52290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utor time we go to our lessons. We have 6 lessons on a normal day but only 5 lessons on a Friday. This is the science b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1413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Break time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5300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2 periods (lessons) we have our break. This is the Elliot  room where some people spend their brea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Lunc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157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nother 2 periods, we go to lunch. Most people eat in the canteen, but you can eat anywhere. This is the cantee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5445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2 periods and it’s time to go home. This is a view of the back g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0:44:12Z</dcterms:created>
  <dc:creator>8ionabooth</dc:creator>
  <dc:description/>
  <dc:language>en-US</dc:language>
  <cp:lastModifiedBy>Technical Resources Manager</cp:lastModifiedBy>
  <dcterms:modified xsi:type="dcterms:W3CDTF">2008-11-20T08:24:06Z</dcterms:modified>
  <cp:revision>4</cp:revision>
  <dc:subject/>
  <dc:title>A Normal Day at Gordano </dc:title>
</cp:coreProperties>
</file>